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FE7A-2766-4908-B149-083EE86D6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1CB3-0B33-4963-AD6E-5B0BD7418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ABCA-65E4-4DC7-8CAB-AD87EE793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DA22-C0E1-4EDE-A06D-8D63C759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D0F5-F42E-47FF-9709-A92DEC68B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4AE5-66EA-49BF-95F0-B43AE4F73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8047-50C7-4D66-87B6-0ACD65CB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1D41-7415-4AF8-828F-B1D44B02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45E9-7CFA-41D6-A127-8C34E79C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0578-1175-49B3-9D43-61CCE681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74EA-1965-40FA-AECC-C217FDEE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BEF6-BD66-4EB0-B246-5101BC7D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20CF-958E-473F-A7F1-3DCC9935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0B40-CFE0-4DBC-9888-9AC90046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8D3D-7EC6-4E22-9C76-C02B50E2F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4 In which region are ethnic religions most widely practic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or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5 Which of the following religions diffused primarily through armed conqu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udd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indu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ik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hinto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5 Which of the following religions diffused primarily through armed conqu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udd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indu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ik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I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hinto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6 __________ consider solstices to be holy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uddh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J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onfuci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hrist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a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6 __________ consider solstices to be holy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uddh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J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onfuci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hrist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Pa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7 _________ typically favors cremation over bu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Juda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ao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hristia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Hindu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7 _________ typically favors cremation over bu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Juda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ao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hristia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Hindu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8 What is the second-highest rank within the Roman Catholic hierarc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rchbish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Bish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ardi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ri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8 What is the second-highest rank within the Roman Catholic hierarc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rchbish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Bish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Cardi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ri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914400" y="0"/>
            <a:ext cx="670572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1 Which of the following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universalizing relig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udd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hristia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Juda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ik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9 The caste system in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lac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udr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the top of the hier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as created by the Aryan invaders of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oes not affect how individual Hindus practi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li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 enforced by official government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ees the “untouchables” as closest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lighte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9 The caste system in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lac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udr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the top of the hier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Was created by the Aryan invaders of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oes not affect how individual Hindus practi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li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 enforced by official government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ees the “untouchables” as closest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lighte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10 Which three religions have holy places in Jerusa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ikhism, Islam, Juda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slam, Christianity, Hindu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induism, Sikhism, Budd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lam, Christianity, Juda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Jainism, Christianity, Juda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10 Which three religions have holy places in Jerusa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ikhism, Islam, Juda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slam, Christianity, Hindu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induism, Sikhism, Budd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Islam, Christianity, Juda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Jainism, Christianity, Juda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06_15"/>
          <p:cNvPicPr/>
          <p:nvPr/>
        </p:nvPicPr>
        <p:blipFill>
          <a:blip r:embed="rId1"/>
          <a:stretch/>
        </p:blipFill>
        <p:spPr>
          <a:xfrm>
            <a:off x="1981080" y="685800"/>
            <a:ext cx="4800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1 Which of the following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universalizing relig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udd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hristia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Juda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ik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2 Roman Catholicism predominate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ana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2 Roman Catholicism predominate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ana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ustr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Geography of Relig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5"/>
          <p:cNvGrpSpPr/>
          <p:nvPr/>
        </p:nvGrpSpPr>
        <p:grpSpPr>
          <a:xfrm>
            <a:off x="0" y="1066680"/>
            <a:ext cx="9144000" cy="4254480"/>
            <a:chOff x="0" y="1066680"/>
            <a:chExt cx="9144000" cy="4254480"/>
          </a:xfrm>
        </p:grpSpPr>
        <p:pic>
          <p:nvPicPr>
            <p:cNvPr id="60" name="Picture 3" descr="FG06_011"/>
            <p:cNvPicPr/>
            <p:nvPr/>
          </p:nvPicPr>
          <p:blipFill>
            <a:blip r:embed="rId1"/>
            <a:srcRect l="911" t="6666" r="4546" b="34667"/>
            <a:stretch/>
          </p:blipFill>
          <p:spPr>
            <a:xfrm>
              <a:off x="0" y="1066680"/>
              <a:ext cx="9144000" cy="425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4" descr="FG06_011"/>
            <p:cNvPicPr/>
            <p:nvPr/>
          </p:nvPicPr>
          <p:blipFill>
            <a:blip r:embed="rId2"/>
            <a:srcRect l="1155" t="66155" r="70002" b="3846"/>
            <a:stretch/>
          </p:blipFill>
          <p:spPr>
            <a:xfrm>
              <a:off x="0" y="3597120"/>
              <a:ext cx="2209680" cy="17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Text Box 6"/>
          <p:cNvSpPr/>
          <p:nvPr/>
        </p:nvSpPr>
        <p:spPr>
          <a:xfrm>
            <a:off x="609480" y="57150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Ethnic Religio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Polytheism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Universalizing Religions(proselytic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Monotheis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3 Which of the following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e of the five pillars of Isla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ccept Allah as the one G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Donate to cha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ast during the month of Ramad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Make a pilgrimage to Jerusa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ray five time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3 Which of the following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e of the five pillars of Isla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ccept Allah as the one G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Donate to cha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ast during the month of Ramad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Make a pilgrimage to Jerusa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ray five time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6.04 In which region are ethnic religions most widely practic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or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21:30:07Z</dcterms:created>
  <dc:creator>Michael Pretes</dc:creator>
  <dc:description/>
  <dc:language>en-US</dc:language>
  <cp:lastModifiedBy>Hartman, Unity</cp:lastModifiedBy>
  <dcterms:modified xsi:type="dcterms:W3CDTF">2014-12-12T22:56:55Z</dcterms:modified>
  <cp:revision>85</cp:revision>
  <dc:subject/>
  <dc:title>CRS Chapter 4</dc:title>
</cp:coreProperties>
</file>